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EAF1-DB55-4D17-8D94-ADBD3585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808-F420-4E41-A25C-4628242C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DF93-FEAF-4CA8-B8ED-766A0806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0CEC-F63A-4504-88C5-79C40DF3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9133-E786-40B4-8BFF-D8F25B63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70A3-C91A-45F6-97B4-4AE2AA98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B370-A661-4AF3-B8FF-12D3A7E1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C5A0-B53B-46F9-BC6D-F73EF1E5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75AA-0F6F-4097-A6BD-2AF4F1CD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69C1-544A-4300-A6AE-1A7CD070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6C1E-324F-4095-9B98-FDD7EF1C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EA70-F1AF-4B4F-901B-15776E9D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81FF-BED7-4627-8A0C-3988187C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7F4C-F0CE-4B65-9696-72D96616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348C-BF07-4F19-8517-CE9A88B5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30FF-4E5D-43CE-A0DB-73AFA9A9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FE95-9232-4658-8866-77F064DB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8C1A-D396-4E87-BACC-F05598A7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76BA-E8AB-46B4-8519-CE6CC62E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3661-25A0-4683-9E86-DA65C693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5F4F-182E-4BC9-98FE-2DE97FA1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B2A6-E90D-418A-A8F1-24D82AFD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DB6-40C7-4B4C-8538-22E15CC2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9DCB-E8C9-4A17-98AF-5759951C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EDAB-786D-4939-9AE5-B7F9F3E2C1D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F2DC-EE67-4CED-8ECC-C9C8EC1730A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8" descr="Image008"/>
          <p:cNvPicPr/>
          <p:nvPr/>
        </p:nvPicPr>
        <p:blipFill>
          <a:blip r:embed="rId1"/>
          <a:stretch/>
        </p:blipFill>
        <p:spPr>
          <a:xfrm>
            <a:off x="1908000" y="2492280"/>
            <a:ext cx="5328000" cy="399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9"/>
          <p:cNvSpPr/>
          <p:nvPr/>
        </p:nvSpPr>
        <p:spPr>
          <a:xfrm>
            <a:off x="720720" y="260280"/>
            <a:ext cx="842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0"/>
          <p:cNvSpPr/>
          <p:nvPr/>
        </p:nvSpPr>
        <p:spPr>
          <a:xfrm>
            <a:off x="555480" y="44280"/>
            <a:ext cx="858852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шноков А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математики и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КОУ «СОШ им. Х. Х. Долова» с. п. Хату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скенского района КБ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1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981000"/>
            <a:ext cx="4824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универс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оригин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растров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ровым или векторным редактором является Pai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866920" y="1125360"/>
            <a:ext cx="2730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МР,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MF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IFF,GIF,PNG,JP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астр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752400" y="333360"/>
            <a:ext cx="8391600" cy="59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V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зучение новой темы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риемы работы в Pa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aint является растровым графическим редактором, это значит что, изображение строится из точек различных цветов. Соответственно и инструменты для работы с графикой будут как у художника. Напомню, что векторная графика базируется на математических формул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>
            <a:hlinkClick r:id="" action="ppaction://hlinkshowjump?jump=previousslide"/>
          </p:cNvPr>
          <p:cNvSpPr/>
          <p:nvPr/>
        </p:nvSpPr>
        <p:spPr>
          <a:xfrm>
            <a:off x="709308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1">
            <a:hlinkClick r:id="" action="ppaction://hlinkshowjump?jump=nextslide"/>
          </p:cNvPr>
          <p:cNvSpPr/>
          <p:nvPr/>
        </p:nvSpPr>
        <p:spPr>
          <a:xfrm>
            <a:off x="824400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2">
            <a:hlinkClick r:id="" action="ppaction://hlinkshowjump?jump=firstslide"/>
          </p:cNvPr>
          <p:cNvSpPr/>
          <p:nvPr/>
        </p:nvSpPr>
        <p:spPr>
          <a:xfrm>
            <a:off x="766764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24000" y="1341360"/>
            <a:ext cx="86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айте подробно рассмотрим инструменты, которые предоставляет нам Pai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глаза"/>
          <p:cNvPicPr/>
          <p:nvPr/>
        </p:nvPicPr>
        <p:blipFill>
          <a:blip r:embed="rId1"/>
          <a:stretch/>
        </p:blipFill>
        <p:spPr>
          <a:xfrm>
            <a:off x="3348000" y="0"/>
            <a:ext cx="2381400" cy="9810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Безымянный1"/>
          <p:cNvPicPr/>
          <p:nvPr/>
        </p:nvPicPr>
        <p:blipFill>
          <a:blip r:embed="rId2"/>
          <a:stretch/>
        </p:blipFill>
        <p:spPr>
          <a:xfrm>
            <a:off x="4356000" y="2205000"/>
            <a:ext cx="1608120" cy="43657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4"/>
          <p:cNvSpPr/>
          <p:nvPr/>
        </p:nvSpPr>
        <p:spPr>
          <a:xfrm>
            <a:off x="6948360" y="2060640"/>
            <a:ext cx="1800360" cy="647640"/>
          </a:xfrm>
          <a:prstGeom prst="wedgeRectCallout">
            <a:avLst>
              <a:gd name="adj1" fmla="val -101763"/>
              <a:gd name="adj2" fmla="val 514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867280" y="2276640"/>
            <a:ext cx="73080" cy="288720"/>
          </a:xfrm>
          <a:custGeom>
            <a:avLst/>
            <a:gdLst>
              <a:gd name="textAreaLeft" fmla="*/ 0 w 73080"/>
              <a:gd name="textAreaRight" fmla="*/ 26280 w 73080"/>
              <a:gd name="textAreaTop" fmla="*/ 7200 h 288720"/>
              <a:gd name="textAreaBottom" fmla="*/ 2815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6"/>
          <p:cNvSpPr/>
          <p:nvPr/>
        </p:nvSpPr>
        <p:spPr>
          <a:xfrm>
            <a:off x="5867280" y="3284640"/>
            <a:ext cx="73080" cy="431640"/>
          </a:xfrm>
          <a:custGeom>
            <a:avLst/>
            <a:gdLst>
              <a:gd name="textAreaLeft" fmla="*/ 0 w 73080"/>
              <a:gd name="textAreaRight" fmla="*/ 26280 w 7308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7"/>
          <p:cNvSpPr/>
          <p:nvPr/>
        </p:nvSpPr>
        <p:spPr>
          <a:xfrm>
            <a:off x="6948360" y="2924280"/>
            <a:ext cx="1800360" cy="649080"/>
          </a:xfrm>
          <a:prstGeom prst="wedgeRectCallout">
            <a:avLst>
              <a:gd name="adj1" fmla="val -102912"/>
              <a:gd name="adj2" fmla="val 3899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8"/>
          <p:cNvSpPr/>
          <p:nvPr/>
        </p:nvSpPr>
        <p:spPr>
          <a:xfrm>
            <a:off x="5867280" y="5229360"/>
            <a:ext cx="144720" cy="863640"/>
          </a:xfrm>
          <a:custGeom>
            <a:avLst/>
            <a:gdLst>
              <a:gd name="textAreaLeft" fmla="*/ 0 w 144720"/>
              <a:gd name="textAreaRight" fmla="*/ 52200 w 144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9"/>
          <p:cNvSpPr/>
          <p:nvPr/>
        </p:nvSpPr>
        <p:spPr>
          <a:xfrm>
            <a:off x="6948360" y="5300640"/>
            <a:ext cx="1800360" cy="649440"/>
          </a:xfrm>
          <a:prstGeom prst="wedgeRectCallout">
            <a:avLst>
              <a:gd name="adj1" fmla="val -100527"/>
              <a:gd name="adj2" fmla="val -12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5940360" y="4149720"/>
            <a:ext cx="73080" cy="792000"/>
          </a:xfrm>
          <a:custGeom>
            <a:avLst/>
            <a:gdLst>
              <a:gd name="textAreaLeft" fmla="*/ 0 w 73080"/>
              <a:gd name="textAreaRight" fmla="*/ 26280 w 73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6948360" y="3933720"/>
            <a:ext cx="1800360" cy="935280"/>
          </a:xfrm>
          <a:prstGeom prst="wedgeRectCallout">
            <a:avLst>
              <a:gd name="adj1" fmla="val -102912"/>
              <a:gd name="adj2" fmla="val 1162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струменты создания объ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2556000" y="307800"/>
            <a:ext cx="64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ение и Выделение произвольной области – выделяют весь рисунок или его фрагмент, для последующих операций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стик/Цветной ластик – стирает либо все подряд , либо только выбранный ц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ливка – закрашивает выбранным цветом замкнутый участок рису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 цветов – позволяет уточнить тот или иной цвет в рису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штаб – позволяет увеличить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>
            <a:hlinkClick r:id="" action="ppaction://hlinkshowjump?jump=nextslide"/>
          </p:cNvPr>
          <p:cNvSpPr/>
          <p:nvPr/>
        </p:nvSpPr>
        <p:spPr>
          <a:xfrm>
            <a:off x="831708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>
            <a:hlinkClick r:id="" action="ppaction://hlinkshowjump?jump=previousslide"/>
          </p:cNvPr>
          <p:cNvSpPr/>
          <p:nvPr/>
        </p:nvSpPr>
        <p:spPr>
          <a:xfrm>
            <a:off x="716436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Безымянный1"/>
          <p:cNvPicPr/>
          <p:nvPr/>
        </p:nvPicPr>
        <p:blipFill>
          <a:blip r:embed="rId1"/>
          <a:srcRect l="0" t="0" r="7614" b="89536"/>
          <a:stretch/>
        </p:blipFill>
        <p:spPr>
          <a:xfrm>
            <a:off x="576360" y="692280"/>
            <a:ext cx="1331640" cy="57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Безымянный1"/>
          <p:cNvPicPr/>
          <p:nvPr/>
        </p:nvPicPr>
        <p:blipFill>
          <a:blip r:embed="rId2"/>
          <a:srcRect l="0" t="10474" r="50510" b="81682"/>
          <a:stretch/>
        </p:blipFill>
        <p:spPr>
          <a:xfrm>
            <a:off x="684360" y="2133720"/>
            <a:ext cx="1155600" cy="496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Безымянный1"/>
          <p:cNvPicPr/>
          <p:nvPr/>
        </p:nvPicPr>
        <p:blipFill>
          <a:blip r:embed="rId3"/>
          <a:srcRect l="42400" t="7853" r="7614" b="81682"/>
          <a:stretch/>
        </p:blipFill>
        <p:spPr>
          <a:xfrm>
            <a:off x="887400" y="3259080"/>
            <a:ext cx="1020600" cy="579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Безымянный1"/>
          <p:cNvPicPr/>
          <p:nvPr/>
        </p:nvPicPr>
        <p:blipFill>
          <a:blip r:embed="rId4"/>
          <a:srcRect l="0" t="15717" r="50262" b="71208"/>
          <a:stretch/>
        </p:blipFill>
        <p:spPr>
          <a:xfrm>
            <a:off x="755640" y="3932280"/>
            <a:ext cx="1152360" cy="720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Безымянный1"/>
          <p:cNvPicPr/>
          <p:nvPr/>
        </p:nvPicPr>
        <p:blipFill>
          <a:blip r:embed="rId5"/>
          <a:srcRect l="42400" t="18328" r="7614" b="73819"/>
          <a:stretch/>
        </p:blipFill>
        <p:spPr>
          <a:xfrm>
            <a:off x="755640" y="4724280"/>
            <a:ext cx="1165320" cy="4971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21">
            <a:hlinkClick r:id="" action="ppaction://hlinkshowjump?jump=firstslide"/>
          </p:cNvPr>
          <p:cNvSpPr/>
          <p:nvPr/>
        </p:nvSpPr>
        <p:spPr>
          <a:xfrm>
            <a:off x="773892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56000" y="188640"/>
            <a:ext cx="65880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андаш – имитирует карандаш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сть – имитирует кисть любого цвета и фор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ылитель – имитирует распылитель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дпись – позволяет вводить текст, который затем становится рисун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ния, Кривая линия – позволяет рисовать прямые     линии (Линия), и кривые (Кривая ли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оугольник, Многоугольник, Эллипс, скругленный прямоугольник – эти инструменты позволяют рисовать соответствующие фигуры любого цвета и раз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4" descr="Безымянный1"/>
          <p:cNvPicPr/>
          <p:nvPr/>
        </p:nvPicPr>
        <p:blipFill>
          <a:blip r:embed="rId1"/>
          <a:srcRect l="7117" t="26191" r="57628" b="65966"/>
          <a:stretch/>
        </p:blipFill>
        <p:spPr>
          <a:xfrm>
            <a:off x="755640" y="260280"/>
            <a:ext cx="1008000" cy="522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Безымянный1"/>
          <p:cNvPicPr/>
          <p:nvPr/>
        </p:nvPicPr>
        <p:blipFill>
          <a:blip r:embed="rId2"/>
          <a:srcRect l="42648" t="26191" r="7862" b="65966"/>
          <a:stretch/>
        </p:blipFill>
        <p:spPr>
          <a:xfrm>
            <a:off x="755640" y="1052640"/>
            <a:ext cx="1008000" cy="498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Безымянный1"/>
          <p:cNvPicPr/>
          <p:nvPr/>
        </p:nvPicPr>
        <p:blipFill>
          <a:blip r:embed="rId3"/>
          <a:srcRect l="7117" t="34044" r="57628" b="58112"/>
          <a:stretch/>
        </p:blipFill>
        <p:spPr>
          <a:xfrm>
            <a:off x="763560" y="1698480"/>
            <a:ext cx="1000080" cy="603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Безымянный1"/>
          <p:cNvPicPr/>
          <p:nvPr/>
        </p:nvPicPr>
        <p:blipFill>
          <a:blip r:embed="rId4"/>
          <a:srcRect l="42648" t="34044" r="7862" b="58112"/>
          <a:stretch/>
        </p:blipFill>
        <p:spPr>
          <a:xfrm>
            <a:off x="826920" y="2492280"/>
            <a:ext cx="1079640" cy="46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Безымянный1"/>
          <p:cNvPicPr/>
          <p:nvPr/>
        </p:nvPicPr>
        <p:blipFill>
          <a:blip r:embed="rId5"/>
          <a:srcRect l="7117" t="41898" r="7862" b="50249"/>
          <a:stretch/>
        </p:blipFill>
        <p:spPr>
          <a:xfrm>
            <a:off x="826920" y="3213000"/>
            <a:ext cx="1081080" cy="50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Безымянный1"/>
          <p:cNvPicPr/>
          <p:nvPr/>
        </p:nvPicPr>
        <p:blipFill>
          <a:blip r:embed="rId6"/>
          <a:srcRect l="0" t="49761" r="7614" b="34542"/>
          <a:stretch/>
        </p:blipFill>
        <p:spPr>
          <a:xfrm>
            <a:off x="611280" y="4292640"/>
            <a:ext cx="1485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-2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ты учащихся прошлых лет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96560" cy="72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649440" y="46080"/>
            <a:ext cx="990144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1214280" y="-709560"/>
            <a:ext cx="11572560" cy="82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755640" y="476280"/>
            <a:ext cx="47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900000" y="981000"/>
            <a:ext cx="18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006560" y="1773360"/>
            <a:ext cx="8137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ы воспользоваться инструментом, необходимо щелкнуть мышкой по значку с инструментом, затем перевести курсор мышки на поле для рисования, нажать и удерживать левую кнопку мышки. Пока кнопка нажата – рисует, отпущена – не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684360" y="2060640"/>
            <a:ext cx="8459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-это зеркало общей и педагогиче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льтуры учителя, мерило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теллектуального богат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казатель его кругозора и эруд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.Сухомлин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гда работа над изображением закончена, нужно сохранить его. Для этого нужно в меню «Файл», выбрать команду «Сохранить», затем в диалоговом окне ввести имя файла и нажать на кнопку «Сохранить». Таким образом вы сохраните файл и сможете воспользоваться им в следующий раз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вное дать правильное имя своему файлу – ведь если вы назовете его, допустим «Рисунок №1», то через какое-то время вы можете не вспомнить, что там нарисовано и вам придется открывать его. А если у вас несколько десятков таких рисунков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Закрепление материал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работа с программой «Paint».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075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зить приложение Paint. Для этого нужно кликнуть мышкой по кнопке «Пуск» — «Программы» — «Стандартные» — « Paint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исовать что-нибудь на свое усмотрение или воспользоваться предложенными образцами и создать их копии, добавить в рисунки свои фрагменты с использованием инструментов Заливка, Надпись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ить рисунок в папке Мои документы в вложенной папке своего класса, дав в качестве имени свою фамилию и кла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ыть Pa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Образцы рисунк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6545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68360" y="189000"/>
            <a:ext cx="84247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I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Диагностика усво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Для чего нам нужен Paint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Назовите основные инструменты Pain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I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7.2.1 (Угринович Н. 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ть  рисунок для дальнейшей работы над ним в среде MS Pa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пражнения: а) Выполнить переводы 69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б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равнение 64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х-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ит = 128 мбай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Вопросы учеников.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 на вопросы учащих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дведение итогов, выставление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4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Тема урока: Основные приемы  работы в Paint 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Picture 5" descr="animvasa.gif (244584 bytes)"/>
          <p:cNvPicPr/>
          <p:nvPr/>
        </p:nvPicPr>
        <p:blipFill>
          <a:blip r:embed="rId1"/>
          <a:stretch/>
        </p:blipFill>
        <p:spPr>
          <a:xfrm>
            <a:off x="3059280" y="2421000"/>
            <a:ext cx="3671640" cy="2457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59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и урок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 (материал 10 класса, в плане подготовки к ЕГЭ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ение понятий по теме «Графические редакторы»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мство с графическим      редактором Paint 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навыков работы с графическим редактором Paint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йствовать воспитанию интереса к предмету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витие творческих способностей и познавательного интереса у учащихся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целеустремленности, умения работать в группе.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920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000000"/>
                </a:solidFill>
                <a:uFillTx/>
                <a:latin typeface="Arial"/>
              </a:rPr>
              <a:t>Ход урока:</a:t>
            </a:r>
            <a:r>
              <a:rPr b="1" i="1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200"/>
            </a:br>
            <a:br>
              <a:rPr sz="4200"/>
            </a:b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I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й</a:t>
            </a: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мент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2997360"/>
            <a:ext cx="777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ветствие, проверка присутствующих. Объяснение хода ур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ная работ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440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системы счисления быв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сколько раз увеличатся числа 12,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5,3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ереносе запятой на один знак впра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цифры используется в 5-й системе счис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3280" y="1600200"/>
            <a:ext cx="45007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Позиционные и непозицио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В 3 и 8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0,1,2,3,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Упражнения на повторение темы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«Системы счисления»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ь переводы чисел 8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8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2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010011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5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Решить уравнение 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00001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Х=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95280" y="0"/>
            <a:ext cx="835344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ронтальный опрос по предыдущей тем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1599840"/>
            <a:ext cx="418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овите виды компьюте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растровые изображения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такое пик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Растровая, векторная.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В процессе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Минимальный участок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чем недостаток растровых изобра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векторные изобра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оинства векто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Чувствительность к масштабир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Из графических объектов, которые хранятся в памяти компьютера в виде графических примитивов и описывающих их математических форм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Сравнительно небольшой объем и возможность масштабирования без потери качества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5:33:30Z</dcterms:created>
  <dc:creator>Ошноков</dc:creator>
  <dc:description/>
  <dc:language>en-US</dc:language>
  <cp:lastModifiedBy>User</cp:lastModifiedBy>
  <dcterms:modified xsi:type="dcterms:W3CDTF">2012-08-27T05:58:09Z</dcterms:modified>
  <cp:revision>58</cp:revision>
  <dc:subject/>
  <dc:title>Слайд 1</dc:title>
</cp:coreProperties>
</file>